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F41-8341-4DF9-9011-193A865D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A6C-8568-4310-B249-508509E2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747-FD5F-4C64-A984-6BA29CBF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06F-87E8-49D5-8ECE-4A17F345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1083-E2C0-4CE1-82B2-29EB42C1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D06B-AF98-4AA6-83D9-86A29FE6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258C-84D4-448D-B443-8932074D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FE06-550C-4EFB-8D49-78B692D3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D2E0-95C2-4E79-8BBB-83A67686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1B71-DD26-4522-ADE4-D34B80B8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52F9-8070-402E-9098-1F16836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772-6906-4521-A9BA-0D98EA2A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7FDD-AD0A-45EF-BE38-E942227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AECB-0DAD-4A47-BF82-B1AEAF51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329F-F205-4428-8985-F2EB067A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9F92-AA5A-4FE1-B5F1-B6E480C7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8945-BF9D-4C80-9BCC-7F0F0DE8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156-09C2-4B21-AFBA-B64A21E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C26-75AC-456E-A813-63F483EB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E44-7A79-4AED-B0AD-B267A949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770-42BB-4A0C-B228-E653927F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756-F7CA-486C-B64F-36B3C65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744-1846-4F7E-A74E-649E5CC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A2C-3EA5-47A1-9E8A-7815B0B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FACC-70D9-42A1-95DA-54CD6EFACD6C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B0BD-03EC-4C12-9E42-D2F4297E31F0}" type="slidenum">
              <a:rPr b="0" lang="hu-H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0066"/>
                </a:solidFill>
                <a:latin typeface="Arial"/>
              </a:rPr>
              <a:t>Az objektum rendj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A biztonsági őr jog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5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Verdana"/>
              </a:rPr>
              <a:t>A biztonsági őr jogo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4560" y="1989000"/>
            <a:ext cx="79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jogsértő magatartás abbahagyására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felszólí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4560" y="256536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jogosulatlan belépést arányos mérvű testi kényszerítő erővel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megakadályoz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4560" y="429264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jogtalan támadást a jogos védelem szabályai szerint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elhárí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4560" y="342900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z objektum területén jogosulatlanul tartózkodó személyt arányos mérvű testi kényszerítő erővel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eltávolí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4560" y="515772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bűncselekmény elkövetésén tetten ért személy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elfogni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, és a rendőrségnek áta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A be- és kiléptetés módj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1700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Verdana"/>
              </a:rPr>
              <a:t>Beléptető rendszer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2200" y="256392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Mechanik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25639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Kombiná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92560" y="25639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Elektronik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7400" y="3259080"/>
            <a:ext cx="67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mindegyiknél elengedhetetlen az élőerős felügye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40035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Verdana"/>
              </a:rPr>
              <a:t>Az őr személyes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600" y="49402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Vizuális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360" y="4940280"/>
            <a:ext cx="38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Dokumentumo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0066"/>
                </a:solidFill>
                <a:latin typeface="Arial"/>
              </a:rPr>
              <a:t>Be- és kiléptetés folyama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Intézkedési sorr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760" y="213372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2. Köszön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92720" y="155736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. A be- és kilépő személyek csoportosí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0800" y="3284640"/>
            <a:ext cx="33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4. Azonosítás– vizuális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4240" y="2708280"/>
            <a:ext cx="45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3. Azonosítás – beléptető 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3860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5. Azonosítás – dokumentumok alapján</a:t>
            </a:r>
            <a:r>
              <a:rPr b="0" lang="hu-HU" sz="2000" spc="-1" strike="noStrike">
                <a:solidFill>
                  <a:srgbClr val="ffff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52120" y="4365720"/>
            <a:ext cx="65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6. Jogosultság megállapítása – beléptető rendsz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8680" y="4870440"/>
            <a:ext cx="53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7. Jogosultság megállapítása – vizuális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53020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8. Jogosultság megállapítása – 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dokumentumo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Intézkedési sorr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82720" y="2637000"/>
            <a:ext cx="37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1. Tárgyak be- vagy kivit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72080" y="1484280"/>
            <a:ext cx="59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9. Ittasság vizsgálata – érzékszervi észlel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95680" y="3787920"/>
            <a:ext cx="40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3. Vizuális csomagátvizsg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95680" y="3211560"/>
            <a:ext cx="42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2. Műszeres csomagátvizsg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55800" y="1989000"/>
            <a:ext cx="44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0. Ittasság vizsgálata - szond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43639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4. Műszeres ruházatátvizsg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2080" y="5011560"/>
            <a:ext cx="40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5. Vizuális ruházatátvizsg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65520" y="5587920"/>
            <a:ext cx="55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6. Ruhával fedett testfelület átvizs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Intézkedési sorr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299736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8. Beléptetés engedélyezése, 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     beléptetés végleges megtagadása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    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63000" y="2060640"/>
            <a:ext cx="514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7. Beléptetés ideiglenes megtagadása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     Kiléptetés ideiglenes felfüggesz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1480" y="429264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19. Dokumentálá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4724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Verdana"/>
              </a:rPr>
              <a:t>Rendzavaró rendkívüli események (R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-K 1. Csoportosí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2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14810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Verdana"/>
              </a:rPr>
              <a:t>Az ellenőrzés módja szerint leh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2080" y="198900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Csak vizuális 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10520" y="2467080"/>
            <a:ext cx="75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z egyenruhás rendőr szolgálati feladata teljesítése sor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87120" y="2971800"/>
            <a:ext cx="76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kiemelt rendkívüli esemény elhárítására érkező személ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51040" y="3403440"/>
            <a:ext cx="54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Megbízó által meghatározott személ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8880" y="407664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Ellenőrzés dokumentumo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33400" y="4627440"/>
            <a:ext cx="46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nyomozó és egyéb hatóság tagj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1040" y="5084640"/>
            <a:ext cx="54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Megbízó által meghatározott személ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9160" y="566100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Ellenőrzés valamennyi formá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-K 2. Köszön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72920" cy="2189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411280" y="3645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Napszaknak, helyi szokásnak megfelelő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11280" y="2060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Köszön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11280" y="2852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Visszaköszön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elépte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3. Azonosítás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eléptető rendsz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5720" y="183996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ff"/>
                </a:solidFill>
                <a:latin typeface="Verdana"/>
              </a:rPr>
              <a:t>A rendszer a belépé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29242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Engedélyezi,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egyúttal  megállapítja a jogosultság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75280" y="3068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engedély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66920" y="3716280"/>
            <a:ext cx="0" cy="504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83280" y="37162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422100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ittasság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75280" y="4221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vizuális 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0066"/>
                </a:solidFill>
                <a:latin typeface="Arial"/>
              </a:rPr>
              <a:t>Be- és kiléptet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 4. Vizuális azonosí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8600" y="1724040"/>
            <a:ext cx="58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ff"/>
                </a:solidFill>
                <a:latin typeface="Times New Roman"/>
              </a:rPr>
              <a:t>Beléptetés az őr vizuális ellenőrzése alap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16000" y="2708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Megisme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32360" y="2708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ismeri f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35280" y="335772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84720" y="3357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000" y="407664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7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jogosultság megállapítása - vizuális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2360" y="40514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z 5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zonosítás dokumentumo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5. Azonosítás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dokumentumok alapjá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79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9600" y="177336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belépő személy a dokumentum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2708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Önként mutat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35640" y="2708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mut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76360" y="328464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0560" y="3284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3789360"/>
            <a:ext cx="42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Következik a 8. pont 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– jogosultság megállapítása –dokumentumo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76720" y="3860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Verdana"/>
              </a:rPr>
              <a:t>Felkérés kilétének igazolás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5. Azonosítás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dokumentumok alapjá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39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19360" y="1557360"/>
            <a:ext cx="58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belépő személy a dokumentumot kérés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Mutat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03640" y="2206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mut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76360" y="249228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2997360"/>
            <a:ext cx="31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jogosultság megállapítása –dokumentumo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2638440"/>
            <a:ext cx="0" cy="504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26384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4720" y="3141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Eltávo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31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távozik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642920" y="3646440"/>
            <a:ext cx="1800" cy="792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27280" y="4437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88000" y="378936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12000" y="436572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Be akar me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172360" y="378936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51640" y="4365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Botrányt okoz</a:t>
            </a: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56000" y="551664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Következik a 17. pont – Beléptetés ideiglenes megtagadá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56360" y="515772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588000" y="55166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RRE - Intézkedés</a:t>
            </a: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56720" y="515772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6. Jogosultság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 Beléptető rendsz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1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6400" y="1603440"/>
            <a:ext cx="42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beléptető-rendszer a belép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58920" y="2349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Engedély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48360" y="2349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engedély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340000" y="2997360"/>
            <a:ext cx="0" cy="86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2997360"/>
            <a:ext cx="0" cy="86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26920" y="4076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Következik a 9. pont 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ittasság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932360" y="414972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Verdana"/>
              </a:rPr>
              <a:t>Következik a 7. pont 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– vizuális 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7. Jogosultság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vizuális ellenőrzé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30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8360" y="1700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z őr vizuális ellenőrzés alapján a belépő személy jogosultság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42920" y="2708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Meg tudja állapíta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16360" y="2708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tudja megállap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40000" y="3500280"/>
            <a:ext cx="0" cy="863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56360" y="350028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042920" y="4437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ittasság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88000" y="450864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Jogosultság megállapítása dokumentumo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8. Jogosultság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dokumentumok alapjá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5280" y="1708200"/>
            <a:ext cx="52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személy a dokumentumok alapján belépés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4360" y="2276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Jogo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5080" y="227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jogo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2781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35640" y="278136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342900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ittasság vizsgá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84720" y="3141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Eltávo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443640" y="31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távozik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642920" y="3646440"/>
            <a:ext cx="1800" cy="646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627280" y="4437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588000" y="378936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12000" y="4365720"/>
            <a:ext cx="143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Be akar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me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172360" y="378936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451640" y="4365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Botrányt okoz</a:t>
            </a: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42920" y="558972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Következik a 17. pont – Beléptetés ideiglenes megtagadá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56360" y="515772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88000" y="551664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RRE - Intézkedés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956720" y="515772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B 9. Ittasság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- érzékszervi ellenőrzé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6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6000" y="170640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em az objektumban dolgozó belép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6640" y="263700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őr az ittasságot érzékszervi ellenőrz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6040" y="34113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Nem állapítja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01120" y="34113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állapí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08000" y="383544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426708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1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tárgyak ellenőr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383544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84720" y="42670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Beléptetés ideiglenes megtagadá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B 9. Ittasság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- érzékszervi ellenőrzé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81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6360" y="158760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belépő az objektumban dolgo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6640" y="221292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őr az ittasságot érzékszervi ellenőrz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040" y="28605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Nem állapítja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45480" y="286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állapí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08000" y="328464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280" y="3716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0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ittasság ellenőrzése szond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35640" y="328464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92360" y="3789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ismeri – jegyzőkönyv -</a:t>
            </a:r>
            <a:br>
              <a:rPr sz="2000"/>
            </a:b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Beléptetés ideiglenes megtagadá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04000" y="328464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88000" y="3789360"/>
            <a:ext cx="2556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Nem ismeri el –</a:t>
            </a:r>
            <a:r>
              <a:rPr b="1" lang="hu-HU" sz="1800" spc="-1" strike="noStrike">
                <a:solidFill>
                  <a:srgbClr val="00ff00"/>
                </a:solidFill>
                <a:latin typeface="Times New Roman"/>
              </a:rPr>
              <a:t>Következik a 10. pont </a:t>
            </a:r>
            <a:r>
              <a:rPr b="1" lang="hu-HU" sz="1800" spc="-1" strike="noStrike">
                <a:solidFill>
                  <a:srgbClr val="ffff00"/>
                </a:solidFill>
                <a:latin typeface="Times New Roman"/>
              </a:rPr>
              <a:t>–ittasság ellenőrzése szondá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B 10. Ittasság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Ellenőrzés szondáv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49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15876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z ellenőrzés történhet az érzékszervi megállapítás után vagy szúrópróba szerű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0600" y="25653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belépő személy az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31417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Elfo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03280" y="3573360"/>
            <a:ext cx="0" cy="505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692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68720" y="314172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ta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1020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508464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36400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3200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7672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Mar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65800" y="458136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11640" y="458136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979640" y="5084640"/>
            <a:ext cx="253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9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48360" y="3141720"/>
            <a:ext cx="17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otrányt ok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885080" y="3500280"/>
            <a:ext cx="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308720" y="508464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RRE –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Intézkedés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B 10. Ittasság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Ellenőrzés szondáv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20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8440" y="177336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belépő személy az ellenőrzés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5640" y="2492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Nem it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03280" y="2924280"/>
            <a:ext cx="0" cy="504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5280" y="335592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1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– tárgyak bevit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284720" y="24922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It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10200" y="285120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443556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64000" y="285120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348000" y="33577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859280" y="3357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Be akar me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65800" y="39322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11640" y="393372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979640" y="4437000"/>
            <a:ext cx="253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9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48360" y="2492280"/>
            <a:ext cx="17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otrányt ok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85080" y="2924280"/>
            <a:ext cx="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08720" y="450864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RRE –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Intézkedés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ff"/>
                </a:solidFill>
                <a:latin typeface="Arial"/>
              </a:rPr>
              <a:t>A megbíz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492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Verdana"/>
              </a:rPr>
              <a:t>Megbíz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24922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z objektummal rendelkező tulajdonos, birtokos, vagy ezek megbízott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42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Megbízón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kívül, bármely más személy cs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797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Megbízó engedélye alapján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, az általa  meghatározott célok és feltételek betartás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400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jogszabály engedélye alapján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, az abban meghatározott célok és feltételek, va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58972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tartózkodik </a:t>
            </a:r>
            <a:r>
              <a:rPr b="1" lang="hu-HU" sz="2000" spc="-1" strike="noStrike">
                <a:solidFill>
                  <a:srgbClr val="ff0066"/>
                </a:solidFill>
                <a:latin typeface="Verdana"/>
              </a:rPr>
              <a:t>jogszerűen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az objektum területé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Verdana"/>
              </a:rPr>
              <a:t>Objek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162864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megbízó közterületnek nem minősülő létesítmén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-K 10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Munkajogi szabály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4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3280" y="148428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Szondával történő ellenőrzéshez az érintett hozzájárulás szüksé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5280" y="206064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hozzájárulás megtagadása, vagy a szonda eredményének vitatása eseté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4320" y="2585880"/>
            <a:ext cx="65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érintett személy </a:t>
            </a: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érheti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vérvétellel történő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3600" y="3019320"/>
            <a:ext cx="64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munkáltató </a:t>
            </a: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elrendelheti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a vérvétellel történő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5280" y="350028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A vérvételhez való hozzájárulás megtagadása az ittasság elismerését jelenti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Munkaügyi kollégium 122. sz. állásfogla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8360" y="45086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vérvételhez a vérdobozt minden esetben a munkáltatónak kell biztosíta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5280" y="515772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Az eljárást részletesen a 16/1986. (XII. 17.) EüM  rendelet szabályoz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 11. Tárgyak bevite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55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9920" y="1413000"/>
            <a:ext cx="87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tulajdonos </a:t>
            </a:r>
            <a:r>
              <a:rPr b="1" lang="hu-HU" sz="1800" spc="-1" strike="noStrike">
                <a:solidFill>
                  <a:srgbClr val="00ff00"/>
                </a:solidFill>
                <a:latin typeface="Verdana"/>
              </a:rPr>
              <a:t>megtilthatja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bármilyen tárgy bevitelét az objektum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19162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ivétel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: ruházat, személyes dolgok – szemüveg, lakáskulcs, pénztárca, st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28840" y="2349360"/>
            <a:ext cx="46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Általában tilos az alábbi dolgok bevit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16480" y="285444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melyek tartását jogszabály til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400" y="3286080"/>
            <a:ext cx="51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melyek tartását jogszabály engedélyhez kö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17200" y="3790800"/>
            <a:ext cx="51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Közbiztonságra különösen veszélyes eszköz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16120" y="43657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objektum biztonságára veszélyes tárgy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2520" y="4941720"/>
            <a:ext cx="67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Felelősség a munkavállalók személyes tárgyaiért </a:t>
            </a:r>
            <a:r>
              <a:rPr b="0" lang="hu-HU" sz="2000" spc="-1" strike="noStrike">
                <a:solidFill>
                  <a:srgbClr val="00ff00"/>
                </a:solidFill>
                <a:latin typeface="Times New Roman"/>
              </a:rPr>
              <a:t>(Mt. 176. §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00000" y="5373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Times New Roman"/>
              </a:rPr>
              <a:t>Csak a munkába járással, munka-végzéssel összefüggő tárgyakért – egyéb: letéti őrzés lehetős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 11. Tárgyak bevite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70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4360" y="155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0000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Bevih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16360" y="2060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vihető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92360" y="2637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" y="306864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2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19640" y="3068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788000" y="3068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2360" y="3068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64000" y="350028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48360" y="3573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067280" y="263700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4836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140360" y="4076640"/>
            <a:ext cx="194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2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332000" y="4076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372360" y="407664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308720" y="357336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3600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-K Csomag átvizsgálás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özös szabály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593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19162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csomag átvizsgáláshoz az érintett személy hozzájárulása szüksé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5280" y="2349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Személyiségi jogok tiszteletben tar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5280" y="3284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Külön helyiség biztosítása, lehetőleg kamer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5280" y="2781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átvizsgáló berendezés képernyőjét csak az őrség látha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3789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átvizsgálást lehetőleg két személy végez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4221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átvizsgáló a csomagba, illetve a tárgyakhoz nem nyúl, csak vizuálisan ellenőriz – kivéve: támadásra alkalmas eszköz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 12 Csomag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műszerr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4360" y="155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csomag átvizsgálás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0000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Hozzájár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20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járul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92360" y="2565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8360" y="2997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2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635280" y="3860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219640" y="38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804000" y="3860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80000" y="429264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80000" y="436572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282920" y="3429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8000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56000" y="486900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47640" y="4869000"/>
            <a:ext cx="25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486900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740720" y="4365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6764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24360" y="256536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40360" y="299736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csomag bevitelének megtil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 12 Csomag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műszerr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528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vizsgálat alapján a csomag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8360" y="213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incs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133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an tiltott tárgy – bevitel megtil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76360" y="2637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9280" y="306864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3640" y="3068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0720" y="3068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48360" y="3068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48000" y="350028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61080" y="3573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51280" y="263700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108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635280" y="4076640"/>
            <a:ext cx="14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835280" y="4076640"/>
            <a:ext cx="18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48360" y="4076640"/>
            <a:ext cx="20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2764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81200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724360" y="3068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Vita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81200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48360" y="4076640"/>
            <a:ext cx="180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3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 átvizsgálás megtekint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15636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0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 13 Csomag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vizuális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5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55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csomag átvizsgálás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0000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Hozzájár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16360" y="20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járul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92360" y="2565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68360" y="2997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3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 átvizsgálás vizuális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635280" y="3860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19640" y="38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04000" y="3860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80000" y="429264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80000" y="436572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282920" y="3429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58000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486900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547640" y="4869000"/>
            <a:ext cx="25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486900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40720" y="4365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66764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24360" y="256536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140360" y="299736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csomag bevitelének megtil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-K Ruházat átvizsgálás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özös szabályo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95280" y="16286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ruházat átvizsgáláshoz az érintett személy hozzájárulása szüksé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2852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Személyiségi jogok tiszteletben tar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95280" y="3789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Külön helyiség biztosítása, lehetőleg kamer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95280" y="3284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átvizsgáló berendezés képernyőjét csak az őrség látha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95280" y="422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átvizsgálást lehetőleg két személy végez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5280" y="5373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átvizsgáló a levetett ruhadarabba sem nyúlhat bele, csak kívülről áttapogatha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95280" y="4653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ruhával fedett testfelület átvizsgálást csak azonos nemű személy végezh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5280" y="206064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ruhával fedett testfelület átvizsgálásához az érintett előzetes írásbeli hozzájárulása szüksé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 14 Ruházat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műszerr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696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155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ruházat átvizsgálás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0000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Hozzájár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6360" y="20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járul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692360" y="2565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68360" y="2997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211640" y="2997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227640" y="299736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 me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59280" y="3429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708360" y="400536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227640" y="4005360"/>
            <a:ext cx="20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7708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77080" y="24922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8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 14 Ruházat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műszerr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15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528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vizsgálat alapján a ruháza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68360" y="213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incs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635280" y="2133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an tiltott tárgy – bevitel megtil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637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79280" y="3068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3640" y="3068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500720" y="3068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948360" y="3068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348000" y="350028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61080" y="3573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851280" y="263700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6108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635280" y="4076640"/>
            <a:ext cx="14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35280" y="4076640"/>
            <a:ext cx="18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948360" y="4076640"/>
            <a:ext cx="20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2764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1200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068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Vita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48360" y="4076640"/>
            <a:ext cx="180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5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egtekint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5636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A rendelkezés alap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77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Polgári jogi szempontb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349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z objektum </a:t>
            </a:r>
            <a:r>
              <a:rPr b="1" lang="hu-HU" sz="2400" spc="-1" strike="noStrike">
                <a:solidFill>
                  <a:srgbClr val="ff0066"/>
                </a:solidFill>
                <a:latin typeface="Verdana"/>
              </a:rPr>
              <a:t>BIRT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9480" y="28749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Megbízó </a:t>
            </a:r>
            <a:r>
              <a:rPr b="1" lang="hu-HU" sz="2400" spc="-1" strike="noStrike">
                <a:solidFill>
                  <a:srgbClr val="ff0066"/>
                </a:solidFill>
                <a:latin typeface="Verdana"/>
              </a:rPr>
              <a:t>BIRTOK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860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Megbízó (</a:t>
            </a:r>
            <a:r>
              <a:rPr b="1" lang="hu-HU" sz="2000" spc="-1" strike="noStrike">
                <a:solidFill>
                  <a:srgbClr val="ff0066"/>
                </a:solidFill>
                <a:latin typeface="Verdana"/>
              </a:rPr>
              <a:t>mint birtokos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) megengedi a belépőnek, hogy használja az objektumot (</a:t>
            </a:r>
            <a:r>
              <a:rPr b="1" lang="hu-HU" sz="2000" spc="-1" strike="noStrike">
                <a:solidFill>
                  <a:srgbClr val="ff0066"/>
                </a:solidFill>
                <a:latin typeface="Verdana"/>
              </a:rPr>
              <a:t>mint birtokot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), és a rendelkezési jog alapján – a jogszabályok keretei között - meghatározza, hogy milyen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célból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és milyen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feltételek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betartása mellet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 15 Ruházat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vizuális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4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84360" y="155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ruházat átvizsgálás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90000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Hozzájár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2133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járul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692360" y="2565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68360" y="2997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5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211640" y="2997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27640" y="299736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 me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859280" y="342900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08360" y="400536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227640" y="4005360"/>
            <a:ext cx="20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708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877080" y="24922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 15 Ruházat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vizuális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61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9528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vizsgálat alapján a ruháza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213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incs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635280" y="2133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an tiltott tárgy – bevitel megtil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76360" y="2637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9280" y="3068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203640" y="3068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3068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948360" y="3068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51280" y="3500280"/>
            <a:ext cx="0" cy="43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24360" y="3573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51280" y="263700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2436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03640" y="4076640"/>
            <a:ext cx="14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00360" y="4076640"/>
            <a:ext cx="18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48360" y="4076640"/>
            <a:ext cx="20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81200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81200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 16 Ruhával fedett 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testfelület átvizsgálá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784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50920" y="177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ruházat átvizsgáláshoz adott előzetes írásbeli hozzájárulá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00000" y="23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Fenntar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03640" y="234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isszavo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692360" y="2781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4000" y="3213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6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val fedett testfelület  átvizs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211640" y="3213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084720" y="321300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 me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59280" y="364500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859280" y="278136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708360" y="422100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227640" y="4221000"/>
            <a:ext cx="20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877080" y="3645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77080" y="27082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 16 Ruhával fedett 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testfelület átvizsgálá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03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74840" y="17733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vizsgálat alapján a ruháza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4756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incs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714840" y="2349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an tiltott tárgy – bevitel megtil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55920" y="285264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58840" y="3284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82840" y="3284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443560" y="32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027920" y="3284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e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30480" y="3716280"/>
            <a:ext cx="0" cy="43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30480" y="2852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803920" y="285264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083200" y="4292640"/>
            <a:ext cx="14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79560" y="429264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027920" y="429264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be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891560" y="285264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891560" y="3716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796000" y="378936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3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8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B.17 Beléptetés ideiglenes megtagadá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26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74840" y="1773360"/>
            <a:ext cx="75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beléptetés engedélyezésére illetékes személy értes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68360" y="2421000"/>
            <a:ext cx="75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Intézkedés a beléptetés engedélyezésére illetékes személydöntése alap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141440" y="3284640"/>
            <a:ext cx="324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916360" y="3789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42920" y="4653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Beléptetés engedély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643280" y="47242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beléptetés végleg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276720" y="4221000"/>
            <a:ext cx="288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076360" y="4221000"/>
            <a:ext cx="32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24000" y="5589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9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3276720" y="5084640"/>
            <a:ext cx="2880" cy="43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076360" y="5157720"/>
            <a:ext cx="3240" cy="43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9" dur="indefinite" restart="never" nodeType="tmRoot">
          <p:childTnLst>
            <p:seq>
              <p:cTn id="2200" dur="indefinite" nodeType="mainSeq">
                <p:childTnLst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5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4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Kilépte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K 3. Azonosítás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eléptető rendsz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49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58160" y="1839960"/>
            <a:ext cx="33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ff"/>
                </a:solidFill>
                <a:latin typeface="Verdana"/>
              </a:rPr>
              <a:t>A rendszer a kilépé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25892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Engedélyez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76720" y="29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engedély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24000" y="3716280"/>
            <a:ext cx="0" cy="504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084720" y="357192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900000" y="422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-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075280" y="4221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vizuális 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61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8760" y="194004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ff"/>
                </a:solidFill>
                <a:latin typeface="Times New Roman"/>
              </a:rPr>
              <a:t>Az őr vizuális ellenőrzése alapj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2708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Megisme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111640" y="2708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ismeri f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050920" y="350028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29928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3280" y="41497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111640" y="41241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z 5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azonosítás dokumentumo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K 4. Vizuális azonosítá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2" dur="indefinite" restart="never" nodeType="tmRoot">
          <p:childTnLst>
            <p:seq>
              <p:cTn id="2293" dur="indefinite" nodeType="mainSeq">
                <p:childTnLst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3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K 5. Azonosítás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dokumentumok alapjá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75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63120" y="1773360"/>
            <a:ext cx="46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kilépő személy a dokumentum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39640" y="2708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Önként mutat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435640" y="2708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mut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476360" y="328464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370560" y="3284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0920" y="3789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076720" y="3860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Felkérés kilétének igazolás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9" dur="indefinite" restart="never" nodeType="tmRoot">
          <p:childTnLst>
            <p:seq>
              <p:cTn id="2330" dur="indefinite" nodeType="mainSeq">
                <p:childTnLst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K 5. Azonosítás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dokumentumok alapjá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888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66920" y="15159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kilépő személy a dokumentumot kérésr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2692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Mutat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003640" y="2206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mut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6360" y="249228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0920" y="2997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284720" y="3213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Eltávo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443640" y="3213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Kérésre mar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43280" y="378936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627280" y="4437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380360" y="378936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292720" y="270828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830920" y="4437000"/>
            <a:ext cx="29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7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 ideiglenes felfüggesz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732720" y="270828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6" dur="indefinite" restart="never" nodeType="tmRoot">
          <p:childTnLst>
            <p:seq>
              <p:cTn id="2367" dur="indefinite" nodeType="mainSeq">
                <p:childTnLst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Birtoksért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19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célok, feltételek hiánya, vagy be nem tartása esetén az objektumba belépés, illetve az objektum területén tartózkodás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jogellenessé válik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. (birtoksérté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78936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z objektumba történő jogosulatlan belépés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jogos önhatalommal megakadályozható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, illetve a területén jogosulatlanul tartózkodó személy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jogos önhatalommal eltávolítható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K 6. Jogosultság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 Beléptető rendsz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0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99920" y="1916280"/>
            <a:ext cx="41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beléptető-rendszer a kilép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58920" y="26622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Engedély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148360" y="266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engedély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340000" y="3309840"/>
            <a:ext cx="0" cy="863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156360" y="330984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042920" y="4365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-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148360" y="4437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7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vizuális 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3" dur="indefinite" restart="never" nodeType="tmRoot">
          <p:childTnLst>
            <p:seq>
              <p:cTn id="2434" dur="indefinite" nodeType="mainSeq">
                <p:childTnLst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K 7. Jogosultság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vizuális ellenőrzé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20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68360" y="1700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z őr vizuális ellenőrzés alapján a kilépő személy jogosultság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042920" y="2708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Meg tudja állapíta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16360" y="2708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tudja megállap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340000" y="3500280"/>
            <a:ext cx="0" cy="863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156360" y="350028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042920" y="443700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8000" y="450864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Jogosultság megállapítása dokumentumok alapj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0" dur="indefinite" restart="never" nodeType="tmRoot">
          <p:childTnLst>
            <p:seq>
              <p:cTn id="2471" dur="indefinite" nodeType="mainSeq">
                <p:childTnLst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B 8. Jogosultság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dokumentumok alapjá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33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66920" y="170028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kilépő személy a dokumentumot kérésr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26920" y="23893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Mutatj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3640" y="25351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Nem muta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6360" y="28209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50920" y="332568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284720" y="35416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Eltávo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43640" y="35416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Kérésre mar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643280" y="4118040"/>
            <a:ext cx="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627280" y="476568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9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380360" y="411804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292720" y="30369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830920" y="4765680"/>
            <a:ext cx="29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7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 ideiglenes felfüggesz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659640" y="299736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7" dur="indefinite" restart="never" nodeType="tmRoot">
          <p:childTnLst>
            <p:seq>
              <p:cTn id="2508" dur="indefinite" nodeType="mainSeq">
                <p:childTnLst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K 9. Ittasság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- érzékszervi ellenőrzé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5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68720" y="19162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em az objektumban dolgozó kilép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616400" y="306864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Nem lehetséges 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908000" y="4437000"/>
            <a:ext cx="25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3500280"/>
            <a:ext cx="0" cy="863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4" dur="indefinite" restart="never" nodeType="tmRoot">
          <p:childTnLst>
            <p:seq>
              <p:cTn id="2575" dur="indefinite" nodeType="mainSeq">
                <p:childTnLst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K 9. Ittasság 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- érzékszervi ellenőrzé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6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77440" y="17319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A kilépő az </a:t>
            </a: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objektumban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 dolg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6640" y="242100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z őr az ittasságot érzékszervi ellenőrz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36040" y="32925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Nem állapítja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290200" y="32846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állapí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619280" y="371628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11280" y="414828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435640" y="3716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492360" y="422100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ismeri – jegyzőkönyv -</a:t>
            </a:r>
            <a:br>
              <a:rPr sz="2000"/>
            </a:b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 ideiglenes felfüggesz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804000" y="3716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8000" y="4221000"/>
            <a:ext cx="2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Nem ismeri el –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2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ittasság ellenőrzése szond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6" dur="indefinite" restart="never" nodeType="tmRoot">
          <p:childTnLst>
            <p:seq>
              <p:cTn id="2597" dur="indefinite" nodeType="mainSeq">
                <p:childTnLst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K 10. Ittasság-</a:t>
            </a:r>
            <a:br>
              <a:rPr sz="4000"/>
            </a:br>
            <a:r>
              <a:rPr b="1" lang="hu-HU" sz="4000" spc="-1" strike="noStrike">
                <a:solidFill>
                  <a:srgbClr val="ff0066"/>
                </a:solidFill>
                <a:latin typeface="Verdana"/>
              </a:rPr>
              <a:t>Ellenőrzés szondáv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78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95280" y="15876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z ellenőrzés történhet az érzékszervi megállapítás után vagy szúrópróba szerű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0600" y="242100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A kilépő személy az ellenőrzé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116000" y="306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Elfo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068720" y="314172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Megtagad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763640" y="3500280"/>
            <a:ext cx="0" cy="505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1020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11600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lenőr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0" y="508464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7. pont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 ideiglenes felfüggesz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364000" y="350028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3200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076720" y="4005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Mar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365800" y="458136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11640" y="4581360"/>
            <a:ext cx="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979640" y="5084640"/>
            <a:ext cx="253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9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 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948360" y="3141720"/>
            <a:ext cx="17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Botrányt ok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885080" y="3573360"/>
            <a:ext cx="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8720" y="5157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RRE –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Intézkedés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8" dur="indefinite" restart="never" nodeType="tmRoot">
          <p:childTnLst>
            <p:seq>
              <p:cTn id="2649" dur="indefinite" nodeType="mainSeq">
                <p:childTnLst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11. Tárgyak kivite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01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84360" y="155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90000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Kivih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716360" y="2060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vihető 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692360" y="2637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95280" y="306864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2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284720" y="3068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Tudomásul ves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372360" y="3068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148360" y="3573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14836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140360" y="4076640"/>
            <a:ext cx="194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2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372360" y="407664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kivitel megakadályoz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308720" y="357336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23600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2 Csomag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műszerr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20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84360" y="155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csomag átvizsgálás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90000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Hozzájár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716360" y="20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járul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692360" y="2565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68360" y="2997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2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995640" y="38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372360" y="3860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356000" y="436572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35600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132000" y="4869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372360" y="486900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vitel megakadályoz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308720" y="4365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23600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724360" y="256536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140360" y="299736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csomag kivitelének megtil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2" dur="indefinite" restart="never" nodeType="tmRoot">
          <p:childTnLst>
            <p:seq>
              <p:cTn id="2803" dur="indefinite" nodeType="mainSeq">
                <p:childTnLst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8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8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2 Csomag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műszerr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41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9528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vizsgálat alapján a csomag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68360" y="213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incs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635280" y="2133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an tiltott tárgy – kivitel megtil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476360" y="2637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79280" y="306864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564000" y="3068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948360" y="3068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924360" y="3573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92436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698920" y="4076640"/>
            <a:ext cx="201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04000" y="4076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vitel megakadályoz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81200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076720" y="3068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Vita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81200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716360" y="4076640"/>
            <a:ext cx="20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3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 átvizsgálás megtekint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43564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50872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9" dur="indefinite" restart="never" nodeType="tmRoot">
          <p:childTnLst>
            <p:seq>
              <p:cTn id="2880" dur="indefinite" nodeType="mainSeq">
                <p:childTnLst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3 Csomag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vizuális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64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84360" y="155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csomag átvizsgálás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90000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Hozzájár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716360" y="20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járul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692360" y="2565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68360" y="2997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3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csomag átvizsgálás vizuális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995640" y="38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372360" y="3860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356000" y="436572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35600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132000" y="48690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372360" y="486900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vitel megakadályoz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308720" y="4365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23600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724360" y="256536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140360" y="299736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csomag kivitelének megtil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6" dur="indefinite" restart="never" nodeType="tmRoot">
          <p:childTnLst>
            <p:seq>
              <p:cTn id="2967" dur="indefinite" nodeType="mainSeq">
                <p:childTnLst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2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A Megbízó jog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162864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Megbízó - a jogszabályok keretei között -meghatározhat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465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meghatározott célok és feltételek hiánya esetén alkalmazható intézkedése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342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fenti célok és feltételek ellenőrzésének rendj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9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z objektumban tartózkodás célját és feltétel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4076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z ellenőrzésre alkalmazott eszközöket és módszere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349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be-és kilépés célját és feltétel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3 Csomag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vizuális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528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vizsgálat alapján a csomag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8360" y="213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incs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635280" y="2133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an tiltott tárgy – kivitel megtil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476360" y="2637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79280" y="306864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516720" y="299736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 akarja vin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13080" y="350208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213080" y="257796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32000" y="407664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516720" y="400536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ivitel megakadályoz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380360" y="256536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380360" y="3429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780000" y="2997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4 Ruházat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műszerr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04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84360" y="155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ruházat átvizsgálás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0000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Hozzájár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716360" y="20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járul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692360" y="2565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68360" y="2997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4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űszerr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003640" y="2997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651640" y="256536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859280" y="400536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1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651640" y="3429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0" dur="indefinite" restart="never" nodeType="tmRoot">
          <p:childTnLst>
            <p:seq>
              <p:cTn id="3111" dur="indefinite" nodeType="mainSeq">
                <p:childTnLst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fill="hold">
                      <p:stCondLst>
                        <p:cond delay="indefinite"/>
                      </p:stCondLst>
                      <p:childTnLst>
                        <p:par>
                          <p:cTn id="3118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fill="hold">
                      <p:stCondLst>
                        <p:cond delay="indefinite"/>
                      </p:stCondLst>
                      <p:childTnLst>
                        <p:par>
                          <p:cTn id="3133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fill="hold">
                      <p:stCondLst>
                        <p:cond delay="indefinite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fill="hold">
                      <p:stCondLst>
                        <p:cond delay="indefinite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4 Ruházat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műszerr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19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9528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vizsgálat alapján a ruháza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68360" y="213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incs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932360" y="1989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an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476360" y="2637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79280" y="3068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948360" y="3141720"/>
            <a:ext cx="21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El akar távoz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140360" y="3068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885080" y="357336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500720" y="3573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885080" y="27082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0072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635280" y="4076640"/>
            <a:ext cx="14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7020000" y="4076640"/>
            <a:ext cx="187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 ideiglenes felfüggesz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01200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580000" y="3068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Vitat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148360" y="4076640"/>
            <a:ext cx="180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a 15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megtekinté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7" dur="indefinite" restart="never" nodeType="tmRoot">
          <p:childTnLst>
            <p:seq>
              <p:cTn id="3158" dur="indefinite" nodeType="mainSeq">
                <p:childTnLst>
                  <p:par>
                    <p:cTn id="3159" fill="hold">
                      <p:stCondLst>
                        <p:cond delay="indefinite"/>
                      </p:stCondLst>
                      <p:childTnLst>
                        <p:par>
                          <p:cTn id="3160" fill="hold">
                            <p:stCondLst>
                              <p:cond delay="0"/>
                            </p:stCondLst>
                            <p:childTnLst>
                              <p:par>
                                <p:cTn id="3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3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fill="hold">
                      <p:stCondLst>
                        <p:cond delay="indefinite"/>
                      </p:stCondLst>
                      <p:childTnLst>
                        <p:par>
                          <p:cTn id="3235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5 Ruházat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vizuális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42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84360" y="1557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ruházat átvizsgálás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90000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Hozzájár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716360" y="20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Nem járul hozz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692360" y="2565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68360" y="2997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5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zat átvizsgálás vizuális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003640" y="2997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859280" y="400536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1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51640" y="256536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651640" y="3429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4" dur="indefinite" restart="never" nodeType="tmRoot">
          <p:childTnLst>
            <p:seq>
              <p:cTn id="3245" dur="indefinite" nodeType="mainSeq">
                <p:childTnLst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1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6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5 Ruházat átvizsgálás-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vizuálisa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5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6560" y="1557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vizsgálat alapján a ruháza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39640" y="2133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incs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859280" y="2133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an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547640" y="263700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50920" y="3068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12000" y="3068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El akar távoz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572000" y="3068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093080" y="350028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932360" y="357336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093080" y="263700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932360" y="2637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140360" y="4076640"/>
            <a:ext cx="14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300720" y="4005360"/>
            <a:ext cx="187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2" dur="indefinite" restart="never" nodeType="tmRoot">
          <p:childTnLst>
            <p:seq>
              <p:cTn id="3293" dur="indefinite" nodeType="mainSeq">
                <p:childTnLst>
                  <p:par>
                    <p:cTn id="3294" fill="hold">
                      <p:stCondLst>
                        <p:cond delay="indefinite"/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fill="hold">
                      <p:stCondLst>
                        <p:cond delay="indefinite"/>
                      </p:stCondLst>
                      <p:childTnLst>
                        <p:par>
                          <p:cTn id="3300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4" fill="hold">
                      <p:stCondLst>
                        <p:cond delay="indefinite"/>
                      </p:stCondLst>
                      <p:childTnLst>
                        <p:par>
                          <p:cTn id="3315" fill="hold">
                            <p:stCondLst>
                              <p:cond delay="0"/>
                            </p:stCondLst>
                            <p:childTnLst>
                              <p:par>
                                <p:cTn id="3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8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8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4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6 Ruhával fedett 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testfelület átvizsgálá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76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95280" y="1628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A ruházat átvizsgáláshoz adott előzetes írásbeli hozzájárulás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900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Fenntart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859280" y="2565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isszavo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24000" y="3429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6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ruhával fedett testfelület  átvizs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00364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Eltávo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59280" y="443700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19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651640" y="299736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651640" y="3860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9" dur="indefinite" restart="never" nodeType="tmRoot">
          <p:childTnLst>
            <p:seq>
              <p:cTn id="3360" dur="indefinite" nodeType="mainSeq">
                <p:childTnLst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fill="hold">
                      <p:stCondLst>
                        <p:cond delay="indefinite"/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9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K. 16 Ruhával fedett </a:t>
            </a:r>
            <a:br>
              <a:rPr sz="4000"/>
            </a:br>
            <a:r>
              <a:rPr b="1" lang="hu-HU" sz="4000" spc="-1" strike="noStrike">
                <a:solidFill>
                  <a:srgbClr val="ff0000"/>
                </a:solidFill>
                <a:latin typeface="Arial"/>
              </a:rPr>
              <a:t>testfelület átvizsgálá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191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68360" y="2060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A vizsgálat alapján a ruházat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41440" y="2637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Times New Roman"/>
              </a:rPr>
              <a:t>Nincs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861080" y="2637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Van tiltott tá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549440" y="3139920"/>
            <a:ext cx="0" cy="432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52360" y="3571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156360" y="3573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El akar távoz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573440" y="3571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Let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094520" y="400356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933800" y="4076640"/>
            <a:ext cx="0" cy="43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094520" y="31384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933800" y="3139920"/>
            <a:ext cx="0" cy="43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141800" y="4579920"/>
            <a:ext cx="14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302520" y="4508640"/>
            <a:ext cx="187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Következik </a:t>
            </a:r>
            <a:br>
              <a:rPr sz="2000"/>
            </a:br>
            <a:r>
              <a:rPr b="1" lang="hu-HU" sz="2000" spc="-1" strike="noStrike">
                <a:solidFill>
                  <a:srgbClr val="ff0000"/>
                </a:solidFill>
                <a:latin typeface="Times New Roman"/>
              </a:rPr>
              <a:t>a 17. pont</a:t>
            </a: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– kiléptetés ideiglenes megtagad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6" dur="indefinite" restart="never" nodeType="tmRoot">
          <p:childTnLst>
            <p:seq>
              <p:cTn id="3407" dur="indefinite" nodeType="mainSeq">
                <p:childTnLst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8" fill="hold">
                      <p:stCondLst>
                        <p:cond delay="indefinite"/>
                      </p:stCondLst>
                      <p:childTnLst>
                        <p:par>
                          <p:cTn id="3419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2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7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2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0066"/>
                </a:solidFill>
                <a:latin typeface="Arial"/>
              </a:rPr>
              <a:t>K. 17 Kiléptetés ideiglenes felfüggeszté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10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74840" y="2133720"/>
            <a:ext cx="75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probléma szerint illetékes személy értes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68360" y="2781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probléma tisztázása, vagy annak meghiúsu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4141440" y="3284640"/>
            <a:ext cx="324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68360" y="378936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8. pont 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- kilépte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5640" y="4869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Times New Roman"/>
              </a:rPr>
              <a:t>Következik a 19. pont</a:t>
            </a: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- dokumentál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4140360" y="4292640"/>
            <a:ext cx="288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8360" y="1628640"/>
            <a:ext cx="75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Csak az érintett személy egyetértésé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3" dur="indefinite" restart="never" nodeType="tmRoot">
          <p:childTnLst>
            <p:seq>
              <p:cTn id="3474" dur="indefinite" nodeType="mainSeq">
                <p:childTnLst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0" fill="hold">
                      <p:stCondLst>
                        <p:cond delay="indefinite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23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29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Fogal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62864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Megbízó által engedélyezett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célból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, az általa meghatározott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feltételek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betartásá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3645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feltételek meglétét, illetve betartását, az ezzel megbízott személy (általában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objektumőr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637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z objektumba történő be-, illetve az onnan történő kilép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486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beléptető rendszerek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segítségével vagy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személyesen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ellenőrz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35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241" name=""/>
          <p:cNvSpPr/>
          <p:nvPr/>
        </p:nvSpPr>
        <p:spPr>
          <a:xfrm>
            <a:off x="25092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A biztonsági őr jog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55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Verdana"/>
              </a:rPr>
              <a:t>A biztonsági őr jogo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2205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területre belépő vagy ott tartózkodó személyt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felhívni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364500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Jogosultságának igazolás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637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Kilétének igazolás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3141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belépés, illetve ott-tartózkodás céljának közlésé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437000"/>
            <a:ext cx="806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ff"/>
                </a:solidFill>
                <a:latin typeface="Verdana"/>
              </a:rPr>
              <a:t>Felkérhet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 igazoltatásra jogosult hatósági személyt a személyazonosság megállapításá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66"/>
                </a:solidFill>
                <a:latin typeface="Arial"/>
              </a:rPr>
              <a:t>A biztonsági őr jog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935840" y="198360"/>
            <a:ext cx="1067040" cy="609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028000" y="260280"/>
            <a:ext cx="822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D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10520" y="351000"/>
            <a:ext cx="36504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K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93040" y="351000"/>
            <a:ext cx="274680" cy="27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J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00"/>
                </a:solidFill>
                <a:latin typeface="Times New Roman"/>
              </a:rPr>
              <a:t>Magánbiztonság –Az objektum rendje-2007                                                  Dr. Kaló Józs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ff00"/>
                </a:solidFill>
                <a:latin typeface="Verdana"/>
              </a:rPr>
              <a:t>A biztonsági őr jogo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1989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területre belépő, az ott tartózkodó, illetve onnan kilépő személy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2852640"/>
            <a:ext cx="83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Felhívni</a:t>
            </a:r>
            <a:r>
              <a:rPr b="0" lang="hu-H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csomag, menetokmány, szállítási okmány bemutatás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3645000"/>
            <a:ext cx="83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Ellenőrizni </a:t>
            </a: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csomagját, ruházatát, járművét, szállítmány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422100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Fegyver-, illetve robbanóanyag kutató műszert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alkalmaz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551664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Fegyver-, illetve robbanóanyag kutató műszert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alkalmaz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72428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Verdana"/>
              </a:rPr>
              <a:t>A közbiztonságra különösen veszélyes eszközök bevitelét </a:t>
            </a:r>
            <a:r>
              <a:rPr b="1" lang="hu-HU" sz="2000" spc="-1" strike="noStrike">
                <a:solidFill>
                  <a:srgbClr val="00ff00"/>
                </a:solidFill>
                <a:latin typeface="Verdana"/>
              </a:rPr>
              <a:t>megtilt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3:29:18Z</dcterms:created>
  <dc:creator>user</dc:creator>
  <dc:description/>
  <dc:language>en-US</dc:language>
  <cp:lastModifiedBy>user</cp:lastModifiedBy>
  <dcterms:modified xsi:type="dcterms:W3CDTF">2007-03-04T21:08:06Z</dcterms:modified>
  <cp:revision>17</cp:revision>
  <dc:subject/>
  <dc:title>Az objektum rend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